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54E9330F-D422-4EA8-A3DC-C4C69BF1617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AF536BA6-8E2E-4311-99F1-B9B4D55F634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3: Schedule Management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accurate is the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it cost (or save) the busines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one develop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rease team task hours by 5 hours per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anagement actions would increase (or decrease) the team’s weekly task hour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events might cause the weeks-to-go estimates to be in erro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is exercise is to illustrate how TSP data can be used to manage project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describes how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when the project will fin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reasons for potential schedul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uses data on one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5-member team has completed 13 weeks of its 36 week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completed the product’s high-level design and are about to start on detailed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xercise uses data from the TSP WEEK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reports these data every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 Form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028880" y="2220840"/>
            <a:ext cx="2095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Week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6770520" y="598320"/>
            <a:ext cx="164016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he exercis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6" name="Picture 1029" descr=""/>
          <p:cNvPicPr/>
          <p:nvPr/>
        </p:nvPicPr>
        <p:blipFill>
          <a:blip r:embed="rId1"/>
          <a:stretch/>
        </p:blipFill>
        <p:spPr>
          <a:xfrm>
            <a:off x="4113360" y="1879560"/>
            <a:ext cx="4329000" cy="404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30"/>
          <p:cNvSpPr/>
          <p:nvPr/>
        </p:nvSpPr>
        <p:spPr>
          <a:xfrm>
            <a:off x="3343320" y="2306520"/>
            <a:ext cx="1369800" cy="171720"/>
          </a:xfrm>
          <a:prstGeom prst="rightArrow">
            <a:avLst>
              <a:gd name="adj1" fmla="val 50000"/>
              <a:gd name="adj2" fmla="val 199423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Oval 1031"/>
          <p:cNvSpPr/>
          <p:nvPr/>
        </p:nvSpPr>
        <p:spPr>
          <a:xfrm>
            <a:off x="4884840" y="2220840"/>
            <a:ext cx="685800" cy="3430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Oval 1032"/>
          <p:cNvSpPr/>
          <p:nvPr/>
        </p:nvSpPr>
        <p:spPr>
          <a:xfrm>
            <a:off x="6770520" y="2478240"/>
            <a:ext cx="1714680" cy="68256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Text Box 1033"/>
          <p:cNvSpPr/>
          <p:nvPr/>
        </p:nvSpPr>
        <p:spPr>
          <a:xfrm>
            <a:off x="1028880" y="3417840"/>
            <a:ext cx="2095200" cy="2050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90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for completed task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AutoShape 1034"/>
          <p:cNvSpPr/>
          <p:nvPr/>
        </p:nvSpPr>
        <p:spPr>
          <a:xfrm rot="20995800">
            <a:off x="3257640" y="3246480"/>
            <a:ext cx="3427200" cy="171360"/>
          </a:xfrm>
          <a:prstGeom prst="rightArrow">
            <a:avLst>
              <a:gd name="adj1" fmla="val 50000"/>
              <a:gd name="adj2" fmla="val 5000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Assessmen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hree principal steps in assessing project statu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rate at which the team has completed its work so f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ing that the team continues at this rate, estimate when the project will finis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consequences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a developer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ing the team increase its weekly task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illustrates the use of TSP data to identify and address schedule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17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18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does the project sta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is it ahead or behind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performanc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dding one developer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 5-hour increase in weekly team task hours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7:17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20Z</dcterms:modified>
  <cp:revision>13</cp:revision>
  <dc:subject>24 July 2001 / 3:30pm</dc:subject>
  <dc:title>PowerPoint Presentation</dc:title>
</cp:coreProperties>
</file>